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C5193-7D5B-47EE-8E7F-57300A4CB1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8DA88-BAE4-4929-AF30-85463BEB7B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B7BEA-BF39-4774-BA60-7ADB7A228A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865AF-914F-401D-A95F-D42BC2E4F1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1619D-7418-47B9-A500-FAF95A1F5A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C411-8BBC-47F9-9FE0-91D932A0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729-5B6B-4CF4-B2DB-7AFBB0E5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031-8FC9-4C9E-B810-CDE2F125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6BE-86D6-408D-9844-8947AE06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A87-0F30-46CA-83F1-F2053240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F1B-5F1B-4AB4-A2E4-195D0164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E47-9FF4-44DE-9952-05A72321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D4D-D476-4AC4-B047-3EBE22AC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92F5-3213-4CF8-A263-501A479A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DC7-7E51-4902-8676-320CCDAE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D43-8D24-4CC0-AF81-43FFB3ED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E02-AF21-4514-8202-A349C078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05B4E-2F4D-4EB9-9BA2-26E3EE09FD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31600" y="2103480"/>
            <a:ext cx="492336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The First Noe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96960" y="880920"/>
            <a:ext cx="87631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First Noel, the Angels did s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as to certain poor shepherds in fields as they 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fields where they lay keeping their sh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On a cold winter's night that was so de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Noel, Noel, Noel, No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orn is the King of Israe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96960" y="880920"/>
            <a:ext cx="876312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They looked up and saw a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Shining in the East beyond them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And to the earth it gave great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And so it continued both day and n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Noel, Noel, Noel, No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Born is the King of Israe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96960" y="880920"/>
            <a:ext cx="8763120" cy="30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This star drew nigh to the north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O'er Bethlehem it took its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And there it did both stop and st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Right o'er the place where Jesus 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Noel, Noel, Noel, No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Born is the King of Israe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cwade</dc:creator>
  <dc:description/>
  <dc:language>en-US</dc:language>
  <cp:lastModifiedBy>pcwade</cp:lastModifiedBy>
  <dcterms:modified xsi:type="dcterms:W3CDTF">2016-12-09T08:09:13Z</dcterms:modified>
  <cp:revision>28</cp:revision>
  <dc:subject/>
  <dc:title>Slide 1</dc:title>
</cp:coreProperties>
</file>